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187-E6C3-47E1-A0AE-136B9647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9B1-033B-4617-965E-A6A10BC1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FFD-41A4-4F22-9C5D-10DCF36A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4B9-F62D-4CEA-8D07-E134A615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9BE-6CD6-4EFA-B396-50786855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BFD-75EC-45C0-AFD3-5852F5D0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9FF-84A5-43CE-A50D-B86EE05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F03-D9E0-40F5-A8B4-99E78A5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B99-969B-45C9-9981-884D158A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DE3-1093-4090-900C-27CDF294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D6E-4E8E-415C-A4C8-198D5A0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0E1-C1CF-4F15-BA8A-FBC301C8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6A4D-A966-4820-A7F7-69940466C5D2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имволика в романе Ф.М Достоевского «Преступление и наказание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Georgia"/>
              </a:rPr>
              <a:t>Выполнила Машкалёва Настя, ученица 10 класса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Picture 2" descr="http://cs1057.vkontakte.ru/u375141/5741963/x_38a5e94b.jpg"/>
          <p:cNvPicPr/>
          <p:nvPr/>
        </p:nvPicPr>
        <p:blipFill>
          <a:blip r:embed="rId1"/>
          <a:stretch/>
        </p:blipFill>
        <p:spPr>
          <a:xfrm>
            <a:off x="533520" y="3124080"/>
            <a:ext cx="236196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1057.vkontakte.ru/u375141/5741963/x_8995d2c2.jpg"/>
          <p:cNvPicPr/>
          <p:nvPr/>
        </p:nvPicPr>
        <p:blipFill>
          <a:blip r:embed="rId2"/>
          <a:stretch/>
        </p:blipFill>
        <p:spPr>
          <a:xfrm>
            <a:off x="2590920" y="3581280"/>
            <a:ext cx="2361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4 имеет основополагающее значение. Есть четыре времени года, четыре Евангелия, четыре стороны света. Вот, например, слова Сони: “Стань на перекрёстке, поклонись всему свету на все четыре сто 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7: роман имеет 7 частей: 6 частей и эпилог. Роковое время для Раскольникова - 7 часов вечера. Теологи называют число 7 истинно святым числом, так как число 7 – это соединение числа 3, символизирующего божественное совершенство (Святая троица) и числа 4 – числа мирового порядка. Следовательно,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исло 7 является символом “союза” Бога и человека.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Поэтому, “посылая” Раскольникова на убийство именно в 7 часов вечера, Достоевский заранее обрекает его на поражение, так как тот хочет разорвать этот союз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т почему, чтобы восстановить этот союз, чтобы снова стать человеком, герой должен снова пройти через это истинно святое число. В эпилоге романа возникает число 7 , но уже не как символ гибели, а как спасительное число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9" name="Picture 2" descr="http://cs207.vkontakte.ru/u472728/34944286/x_7c801db8.jpg"/>
          <p:cNvPicPr/>
          <p:nvPr/>
        </p:nvPicPr>
        <p:blipFill>
          <a:blip r:embed="rId1"/>
          <a:stretch/>
        </p:blipFill>
        <p:spPr>
          <a:xfrm>
            <a:off x="2895480" y="2286000"/>
            <a:ext cx="3333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Georgia"/>
              </a:rPr>
              <a:t>Символика имён и фамилий герое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Раскольник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милия указывает на явление раскола и напоминает о раскольниках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армелад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новные качества мармелада, особенно «мягкий», «слишком сладкий» соответствуют чертам характера героя и его манере изъяснятьс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ня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офья – мудрость. Чаще употребляется в романе: Соня, Сонечка, этим подчёркивается её детскость. Раскольников называет героиню вначале (даже про себя) Софьей Семёновной, как бы признавая недетскую мудрость маленькой героини, хотя и не понимая её до конц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азумих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 содержит более глубокий смысл, нежели распространённое ныне житейское понимание слова «разум». Разум – «духовная сил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уж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, как и герой, ассоциируется с мелким грязным временным водоёмом: если попасть в лужу, можно испачкатьс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ебезятников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ень этой фамилии «лебезить» означает: «егозить, елозить прислуживаясь, льстить, ластиться, ухаживать, увиваться, угодничать, подъезжать; …сплетничать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76160"/>
            <a:ext cx="4800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ы рассмотрели основные символы романа « Преступление и наказание»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15360" indent="-315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Они несут глубокий смысл, проясняющий общую ткань повествования. Помогают проникнуть в сокровенные глубины произведения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" name="Picture 2" descr="C:\Documents and Settings\Владелец\Рабочий стол\8-1.jpg"/>
          <p:cNvPicPr/>
          <p:nvPr/>
        </p:nvPicPr>
        <p:blipFill>
          <a:blip r:embed="rId1"/>
          <a:stretch/>
        </p:blipFill>
        <p:spPr>
          <a:xfrm>
            <a:off x="5257800" y="22096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609480" y="1371600"/>
            <a:ext cx="723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y-bereg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festival.1september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tyappu.pravoverie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lit.1september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vkontakte.ru/club4320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Цель моего исследования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eorgia"/>
              </a:rPr>
              <a:t>Показать на примере романа «Преступление и наказание» великого писателя и мыслителя Ф.М. Достоевского значение символа. </a:t>
            </a:r>
            <a:endParaRPr b="0" lang="en-US" sz="37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Что же такое символ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Символ есть знак, условно выражающий сущность явления с определённой точки зрения» (Л. И. Тимофеев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….можно утверждать, - хотя это и могло бы показаться парадоксальным, - что символ есть такая реальность, которая больше себя самой. ... (о. Павел Флоренский 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В романе можно выделить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цвет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смотрим два основных символических цвета романа: желтый и красный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кольник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морка с жёлтенькими обоями; « тяжёлая,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елчн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злая улыбка змеилась по его губам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ня ( комната с «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елтоваты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оями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рфирий Петрович(мебель из «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тполированного дерева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видригайл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ый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цвет обоев в комнате гостиницы, где остановился герой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аруха – процентщица ( одета в  истрёпанную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ожелтелую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цавейку, мебель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ерева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4" name="Picture 2" descr="http://cs1117.vkontakte.ru/u5402649/11264012/x_3f19ac41.jpg"/>
          <p:cNvPicPr/>
          <p:nvPr/>
        </p:nvPicPr>
        <p:blipFill>
          <a:blip r:embed="rId1"/>
          <a:stretch/>
        </p:blipFill>
        <p:spPr>
          <a:xfrm>
            <a:off x="5867280" y="1447920"/>
            <a:ext cx="2895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eorgia"/>
              </a:rPr>
              <a:t>Красный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цена убийства -  кровавый цвет: “кровь хлынула, как из опрокинутого стакана”, “красный сафьян”, “красный гарнитур”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чало активности (повышается пульс, поднимается давление, учащается дыхание)- красные пятна на шеках Екатерины Ивановны. Парни из первого сна Раскольникова, добивающие лошадёнку, были пьяные и тоже красные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ярко-красным был закат, когда герой отказался от своего “наваждения”. Сама природа как будто поддерживала его в тот момент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ёлтый цвет в романе создаёт дополнительное ощущение болезненности, усиливает атмосферу нездоровья, расстройства, надрыва, истеричности и одновременно затхлости и безысходности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асный цвет  ассоциируется с кровью, с преступлением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чисел в романе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festival.1september.ru/articles/505939/image3.GIF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4" name="Picture 2" descr="http://festival.1september.ru/articles/505939/image2.GIF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6T22:39:34Z</dcterms:modified>
  <cp:revision>22</cp:revision>
  <dc:subject/>
  <dc:title>  Символика в романе Ф.М Достоевского «Преступление и наказание» </dc:title>
</cp:coreProperties>
</file>